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E9B-D500-4559-877C-2EA64C4C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CEF-BB34-46D6-8F9E-D31BE5E7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835-6D2C-40F2-9B73-51E44092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F34-B1D6-45AB-8B7B-2D6D61EC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D4D-218A-45D4-B9BC-EE3F30AE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02BC-FA1E-49B2-B1E3-959FDEAD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F09-7168-4F77-A8D1-EEF5CD0A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591-412D-4C28-877F-F6B7F29F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0E0-CCEC-4CBC-A388-531F76E7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FD1-7DD4-44C1-8977-45F67235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C9B-98E6-4267-8EF6-C2C21136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C42-3A3A-46D0-B475-D3AD0656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4D27-F0E7-4C43-A4DB-E143519C2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bes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8040" y="4566960"/>
            <a:ext cx="66196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Daniel 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ake 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6440" y="203040"/>
            <a:ext cx="3036960" cy="354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0120" y="203040"/>
            <a:ext cx="243828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ibleograph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401840"/>
            <a:ext cx="8666280" cy="60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netic and hereditary ... [Best Pract Res Clin Endocrinol Metab. 2005] - PubMed -</a:t>
            </a:r>
            <a:br>
              <a:rPr sz="21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CBI." National Center for Biotechnology Information. N.p., n.d. Web. 31 Aug. 2011.</a:t>
            </a:r>
            <a:br>
              <a:rPr sz="21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</a:rPr>
              <a:t>http://www.ncbi.nlm.nih.gov/pubmed/1615038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gt;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"Obesity - Wikipedia, the free encyclopedia." Wikipedia, the free encyclopedia. N.p., n.d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. 31 Aug. 2011. &lt;</a:t>
            </a: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</a:rPr>
              <a:t>http://en.wikipedia.org/wiki/Obes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gt;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"Signs and Symptoms of Obesity | Child Obesity, Fast Food Obesity, Child Obesity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uses." Child Obesity, Fast Food Obesity, Child Obesity Causes. N.p., n.d. Web. 31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g. 2011. &lt;</a:t>
            </a: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</a:rPr>
              <a:t>http://childobesitycause.info/obesity-symptoms/signs-and-symptoms-of-obesity.ht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gt;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</a:rPr>
              <a:t>http://www.amazingposts.com/2008/12/20-interesting-facts-on-obesity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</a:rPr>
              <a:t>http://en.wikipedia.org/wiki/Obes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</a:rPr>
              <a:t>http://www.cdc.gov/obesity/data/trends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is Obesit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eisty is a mdeical condition in which excess body fat has accumulated to the extent that may have an adverse effect on health, leading to a lower life expectanc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461808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en did obesity first start or detected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esity was first found as a medical disorder in Greece during the middle ag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36760" y="3251160"/>
            <a:ext cx="533556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othing feeling light and needing a bigger size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ale showing that you gained weight and having extra fat around the wais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49640" y="4572000"/>
            <a:ext cx="3735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ffects- Long term/ short term famil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mily has to decide foods they ea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mily gives support by encouragement, family recreation time, et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families discriminate against individual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52680" y="4470480"/>
            <a:ext cx="34941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treatments for obesity diabetes include getting liposuction surgery where doctors get a large hose and basically "suck out" excess fa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can also exercise which would be a less dangerous way of losing weigh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46240" y="3962520"/>
            <a:ext cx="4219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ing obese used to be a symbol of health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3251160"/>
            <a:ext cx="427500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m 1991 to 2000, the average weight of Americans increased by 8.5 poun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41680" y="3251160"/>
            <a:ext cx="511164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ssissippi is the home of the mud pie. Cajun fried pecans, sweet potato crunch, fried shrimp, and catfish. Mississippi  is also home to the country's fattest people- More then 25% of adult Mississippians are obe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8120" y="4470480"/>
            <a:ext cx="3809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